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23B8-5DB1-4C70-87FD-BE98AA1636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1A85-969C-48A5-9A00-26B405688BB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4D56-CE25-4EC4-AC6B-02C5BDDEEE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C92C-4A60-4459-912C-74504A8E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0D1-E797-4310-8459-B6AE11FD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C9E81-97FB-4FF5-A50F-95EADF87D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513-4B40-4C8C-9E7F-6CD95A71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0DC9-FBBB-4233-BF32-D65F8593D01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972EC-3B3D-4C1C-A6CC-FA205D6756E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60603-73CD-4402-B8A2-25CF6E8E247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4D23E-93BE-4DB1-BE0D-CC1CEC87C79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2B250-4000-4C4D-96DF-72FBC1E46FE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92429-94C2-4815-BD45-8DC41B70CC8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9840D-2730-4552-9D42-60E37919DF2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70EBC-5342-48C9-9DDA-6E9F53367A9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906FD-1E94-4984-BC52-E80B3184378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7187-698D-4AF2-B759-8F0FE0624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914-9F3A-4FA3-A6F0-12740276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667FA-8454-439E-B2C8-4F6EF36FBCB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C95-CEA5-4462-8A9C-5FB42E9B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6E5-36E4-4671-B555-D7523D53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3375C-739C-47DE-843D-F375A3F7F9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6440A-048D-494D-A100-3ECB5F9EC6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A3423-6D7D-44DF-93E0-3BD8903C2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23F-5AE0-4C7C-B2EE-B2CFA023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56325-3909-4A10-B8D0-7D517FEC56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71E3C-77E4-424F-A5CE-A1D43A923B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9CCD6-DE48-4DED-B903-B0FD5150AAF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4AB94-98B0-473E-88F6-5A7B481E21D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73A96-26CB-49D1-AA53-987161C4BF6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6F82E-E5A7-4B54-BCAD-DAC75A2DC1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2ECB9-AF45-45D7-A07E-183A8D101E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6CA0F-8A78-4C6C-8E6B-36C7676B11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2F9C6-6B77-4FDB-8AF4-60CDFF66914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6CD364-C777-4564-BC81-522683A2D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866-838C-49F8-9FE3-0DACF929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A950C3-468A-4039-9340-CE11D1EC41C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CCE0B6-F0A0-4A60-B72D-187B9127B94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52FF1E-C1BE-4DF3-99A8-1BEC986D673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006420-97DA-4969-82F6-398F33AB047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E418F7-C1F3-4A33-ABDE-806D8EE5C8B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F7A3F9-44DC-4571-8FCB-1FE04BF0D2B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C8F5BC-3F1B-4741-9B2B-27D7FA03BEC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42B598-8A40-49FA-AA26-28D90FB762D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056D82-C546-461E-B023-D05557346A9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CE30E7-374A-4B7C-AB59-F3FDC6983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EE8-12F4-4E77-A9F2-FBE29B65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8C6A81-7562-4235-BA9E-F15551FBB16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BE2-780E-44EC-A9EB-7993AE55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F3A-A4B8-43F7-843D-E2E8B7F0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EEFD-804A-47B4-8DE3-01DB4C46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B921-959B-4834-BAF9-2D285E8A8E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82AF-B9DC-44D9-9A05-05B537584A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DEE4-6796-4C87-AA8B-4AEB6135F5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05F1-2C27-49C4-8A5F-DECEB5F8BF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数字证书挂失补办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8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数字证书挂失补办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55640" y="198900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办理条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存储数字证书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遗失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人为损坏导致无法使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数字证书挂失补办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企业名称等信息未发生变化，与原来提交的申请信息一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数字证书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642960" y="20718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远程办理：通过互联网远程补办数字证书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1"/>
          <p:cNvSpPr/>
          <p:nvPr/>
        </p:nvSpPr>
        <p:spPr>
          <a:xfrm>
            <a:off x="324000" y="93816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使用浏览器登录网址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csg.szitrus.com.cn/gateway/regist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上，填写公司名称和需要补办的证书编号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图片 4" descr=""/>
          <p:cNvPicPr/>
          <p:nvPr/>
        </p:nvPicPr>
        <p:blipFill>
          <a:blip r:embed="rId1"/>
          <a:stretch/>
        </p:blipFill>
        <p:spPr>
          <a:xfrm>
            <a:off x="1116000" y="1889280"/>
            <a:ext cx="690876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（一）远程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"/>
          <p:cNvSpPr/>
          <p:nvPr/>
        </p:nvSpPr>
        <p:spPr>
          <a:xfrm>
            <a:off x="324000" y="105264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下载相关补办申请资料并进行填写，填写的信息必须与公司信息一致（请仔细核对）；申请材料包括：营业执照副本复印件、组织机构代码副本证复印件（如企业已办理三证合一，只需要提供营业执照副本）、数字证书申请表、联系人身份证复印件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后和支付凭证快递到天威诚信数字证书服务中心（地址请见第五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快递的纸质申请材料并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制作，并和发票一起快递给供应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特别说明：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为确保及时、准确的收到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及发票，天威诚信选用顺丰快递，快递费用由供应商到付</a:t>
            </a:r>
            <a:r>
              <a:rPr b="1" lang="zh-CN" sz="1800" spc="-1" strike="noStrike">
                <a:solidFill>
                  <a:srgbClr val="558ed5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5"/>
          <p:cNvSpPr/>
          <p:nvPr/>
        </p:nvSpPr>
        <p:spPr>
          <a:xfrm>
            <a:off x="755640" y="2924280"/>
            <a:ext cx="80661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数字证书有效期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三年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费用为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230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不限制使用次数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公司补办证书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张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6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5"/>
          <p:cNvSpPr/>
          <p:nvPr/>
        </p:nvSpPr>
        <p:spPr>
          <a:xfrm>
            <a:off x="714240" y="1000080"/>
            <a:ext cx="80661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远程办理方式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快递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北京市海淀区上地八街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号楼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1A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室，北京天威诚信电子商务服务有限公司，认证服务部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010-50947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04Z</dcterms:modified>
  <cp:revision>209</cp:revision>
  <dc:subject/>
  <dc:title>幻灯片 1</dc:title>
</cp:coreProperties>
</file>