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B11-FA5A-40F0-A80A-DF5DCEE939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B9F2-B89B-451D-941E-D3F9172FD3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A2AF-E909-4B1B-8525-04155DC399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640B-C612-4863-8513-FF931B4A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347-FED1-4F94-B245-F99E68A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49367-21F1-461B-991A-C955EF058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180-412C-4E5B-907A-1228D90F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E0FDE-88C6-4E31-99C5-2C94355F601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C53D-F75C-4BAF-84A5-58E330CD8E3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4386-CCAC-4E9B-8B90-4CD6B3BBBC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43FF1-49E6-4CEC-B8C4-609223E8AD7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7984-68AA-4610-9F7A-EA3F2739945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B52F-8FC1-4EFA-9C94-708BE42E4B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B03B-F39D-4AC0-91FD-BBA764083E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EE6E-FF37-4ADB-8202-5F7B61EEF1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8038-44D8-467A-AF8D-CC1266FE7C1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4105-AD1B-404E-A9A4-A520A57F1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2A3-9863-4A7F-BEC3-6BF8F501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60C2-1C40-4532-A9AF-A2D26ED667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599-9C97-4E38-801C-5702C89D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2C3-0F0E-4E29-8C98-71EB33BA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1E329-EFC6-49E6-B554-F2C8C983B3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FEF5E-BCCC-4D12-85FB-9B76030EAE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377D0-7693-443A-BEDD-D74262227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A1E-8849-4090-B246-2055CCA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E6D43-1726-47CC-9D56-A0D70DB763A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A5F4-FCAE-4B1D-AE98-8C0B1E0580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4B88F-A96F-49C4-97A8-FE90671797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8A1D8-E6C4-448E-813F-9D775908D3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8DFEA-9143-476B-B9F4-C644B48FA6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51DB2-3CDB-45AE-9A38-1A98D59768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FF8C2-46D3-47C3-96C8-97451CD4A0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1C091-4F71-4031-A513-2100F3FE4F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FA725-B57B-4413-8BEB-A935705DC91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05DE8-69D7-4D05-BC3F-D455DBFDF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E54-E748-4EA2-ACEA-AB51F419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C76B0F-9E97-4C4D-B707-1DE77E66E8C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42F599-9F8E-4ED4-829E-36D2A0CA29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E6228-A42F-4333-A7B9-F6BB0F693C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B78C79-EAEE-4276-B7DE-9D9E5228E10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B68190-70E5-49D4-8BE8-2061CC800F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5B9C6-F3F3-4FDF-98E1-6C0B46A9EDA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9D4DF-5A4F-4906-839E-AE125BBCD2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7A6BD6-84E8-49D4-AB2D-5B3F6C00E6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80CFC5-A380-48E3-969E-483A85AFF13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B3F35-8470-405E-9843-89A27DDE5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B94-D1DF-4275-BC1C-7C617469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8FF63-BA2F-4107-8DD6-796073C6940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990-39CA-4BD9-A1E7-82C6E0AA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7C4-6B77-42A0-9E1F-A8EF093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052-9CE3-437B-9674-F178A451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E6A-C6D8-4969-997F-FCC25E3D2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DD68-654D-4FFD-AC48-948236FC44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1661-682D-423B-8F74-64CA7C4DBC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9775-AEEA-4DB8-A5E2-6AB79A63F8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更新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更新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2349360"/>
            <a:ext cx="80643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数字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有效期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证书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到期前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天内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需要更新数字证书，否则数字证书无法继续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52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数字证书客户端工具中，在证书服务中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056720" cy="45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更新证书申请资料并进行填写，填写的信息确认与公司信息一致后在线提交更新数字证书请求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" descr=""/>
          <p:cNvPicPr/>
          <p:nvPr/>
        </p:nvPicPr>
        <p:blipFill>
          <a:blip r:embed="rId1"/>
          <a:stretch/>
        </p:blipFill>
        <p:spPr>
          <a:xfrm>
            <a:off x="225360" y="2735280"/>
            <a:ext cx="833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更新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数字证书更新密码邮件发送给供应商，并短信通知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接收天威诚信更新密码通知邮件，按照邮件说明完成在线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642960" y="1500120"/>
            <a:ext cx="806616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新数字证书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8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开始日期从证书更新成功之日开始计算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注：要求供应商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未损坏并可继续使用，如损坏，则按照初次办理流程进行收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更新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8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24Z</dcterms:modified>
  <cp:revision>231</cp:revision>
  <dc:subject/>
  <dc:title>幻灯片 1</dc:title>
</cp:coreProperties>
</file>